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BDC-0E53-4619-ACEB-82A9C176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CBD-FE03-4785-AB1F-0DDBCC92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B0B1B-5832-44F2-9D6E-E87EF8F0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2A37E-FCDA-4F15-B3B7-E179109C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4C651-556C-45D7-ADF9-50B40A6E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80231-35C7-4C4D-AD91-71E3AC37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FC13B-3CDC-4E77-B511-80690E0C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1D007-FE3E-4A8C-B6A3-79B4AACA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0D871-04AE-42BC-B304-3E4E277E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7598A-81AF-49C3-9F9D-CB5DD881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E2593-3587-4539-ADD0-4D06F5F5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D294E5-9582-41DD-B922-06BCBAC0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A88-BA12-42CB-B94A-C78E23AC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18DE36-0CBE-4EE8-9E01-C4CD2FB8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323C6A-BDF6-4DF7-98E8-AC16DCB3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8353B5-D787-4BD9-9D12-7F29818D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8CD1B1-E541-4A32-A9D8-064B2186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E66A90-0147-4375-B51D-1DD1A78A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8A9AA1-7D28-4CCC-8F2D-D803ECC2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A20654-8B6A-441B-B784-623740C8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71C455-E997-496D-9FED-51378229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88677A-1082-4D97-B5BC-23BE3CE2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246C39-2627-45A6-8381-50A6CF29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703-9784-4EB4-84F6-072776CF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6DAE32-AF77-4ED2-BE16-860AC917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1E83-2032-4A28-B177-224013AF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7296-CA73-4954-931A-048154C7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29A4-7DC2-49D7-8912-BD9E4D30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E916-4994-4D6B-B8BA-1705C863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2261-59B3-4FD0-BAA6-D822D773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9AE1-7881-4F41-B562-B7AE3F9C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D816-17C1-4714-AEF5-A0D8E688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3D4-43E4-4D27-842D-ADB955D2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2E00-9201-4B3F-AE01-8187180B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44EB-1929-4548-99B9-2E7D7C70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7A14-A1BE-4186-B8F2-5B679DB0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149D-0BA7-4888-B595-C6D2C8D1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FFAB-817E-4FC5-931A-89263C42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7003-72B6-4A93-89D7-225DE07D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55C31-5705-4407-A917-E8AB7AAD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B149-62EE-4023-A6E7-7483AED9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86CA5-DCE0-448B-91E6-D427AFBD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32F1-8D0D-4E8B-AEB4-E0574CCA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251-5EF7-451E-9008-01234A6B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A113-1090-446A-90BF-58423793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084B7-42DA-4790-8800-99210292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D8D2-6907-421D-98BE-36A6A2CB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1B89-58E1-44DC-A3CC-188FD00B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B167-7294-4DAF-92F4-4256D215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FF1B5-D817-410C-9D72-7D5E3505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C63D0-BC1C-4B51-9E3B-FFC75637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F08D5-EE5D-4B26-9C9B-62075816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7D10-BD15-43ED-9E3F-7753146C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C5B0-C27F-4186-9F28-1B660069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390-C7E2-4826-B6D0-368099CD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59E15-F08E-4119-B2AA-8BCB2C07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51356-1490-4AF0-84C2-C7FD62F2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6A768-1582-4EDC-BFF7-1BD31834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1438A-2A2E-4F59-BEAA-1F0E48B2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84D1-2417-43EA-9C42-7EB98A0B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E1A3-837D-497E-924E-103C7C1C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45C4-3EBD-484E-A06B-4B63C695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C93C7-443F-4106-8649-DDDED359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C71F1-6BD6-40D8-A03E-2BEAD551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CC8A2-8699-4A29-B7DF-4D42D7C9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94E-1590-4973-93A9-1FCB7F0C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804BE-010F-41A3-887A-56794660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0A51E-918C-4F50-BF7D-101689D8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A7637-8C88-4C12-A9EB-9757D845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19BDD-1DC9-4C1F-ADD7-2CBB4914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C450B-E6F6-4587-A543-BCBEC4A5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F165-9401-4176-AEED-08CFFF9C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EF05E-7F03-4968-BE63-DBD12704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00F19-C8E5-45BA-8A64-43DF7334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FDC9C-07DF-469F-892C-E65429FD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616D9-B710-4371-9216-E78056AD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E5B-79B8-41AB-A276-AF45F294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FD487-F833-4D0D-B90A-1BE3B539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A1C1E-D256-4845-B70C-66444CE2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459EA-FF11-468A-9441-B3113CDA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A98E6-E0C0-4B13-9A74-28DBFDF3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9498B-DA75-4AAD-B3C5-93090EB0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77133-CDD4-474C-9F37-9688FCBC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B7AA1-66C2-4BED-A84C-C009768D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D4034-0AFB-4FE8-BA6A-2BB9B686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EEDA9-373B-4394-8542-CB3DF836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A2B4D-06D9-4575-BA59-DA48A15F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999-9A7C-4B66-A9A5-B0BFF0D4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C7BF-958C-4C54-B819-3C3132CC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F8F98-BCCE-471D-9A6A-38E4EC13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D0A0F-E2C8-4756-A695-81364494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A3E71-B276-4D33-BC9F-4FA60A11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CAB0C-5CD8-47DC-B452-2C64CFC2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BB940A-1CA5-4CF6-8CBD-3F5B85A3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259FD8-57FF-4F92-8613-969E268C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15508-88B6-4080-A3E4-DD174ECC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16F64-258E-47EC-8D21-51DFB120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97767-1A6D-4B16-A032-F0EB8CB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292-B3ED-4AC2-9AF5-36534A1E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76C0D-7928-4AAB-9EFF-E45436B8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AD38F-4DDF-47AC-BC4D-D9B7B06B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46228-B212-4A15-970D-89C62A95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14BBD-9CC6-4E56-95FA-70F22F8E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70A929-264F-4E21-AF78-CE3DDF11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66572-43F2-4FAC-8FB9-FFC73F54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683A4-8DF5-4D81-9C5E-E9C856B2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1491C-A876-4FED-B28E-1668C055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AE60E-C968-4599-95B0-9B0D9074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1BA8E-2812-4821-9D33-BED3CBAA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FDB-2EE4-4B31-8924-2BF707C9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D2B9A-DD64-4F03-8433-2E507ACD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5E11C-2C6C-4C85-84C6-4221E387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F3129-7168-44DC-A990-244CFD17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3D0F4-7B3C-4CFF-9EF4-E9EC0A09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B52C7-7922-4E35-AB0B-4442DAE9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14BEB-AA87-4F5C-B80C-B9B5E352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4B4A0-2D92-4B45-94C2-AA88085B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AF0DE-5842-47A7-8538-A2F1F84C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3204B-5F31-4761-9BFC-869A39EB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120C1-DE07-4425-AED7-38D4E20D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EC8C-E7DC-40DE-AFC6-207F6AD9C9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6E57-FDC7-4C46-B812-5393FDDF4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0C51-2840-4DF0-BFF4-C2B6CAED52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EF13-CA41-4501-A709-5BE364E291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0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0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520F-1ECD-40FC-BBB1-6CE9C7C340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1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3CAD-7E73-4BCE-A56B-1F82C1ECABE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9D4C-149E-4A20-84EC-64416F37828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5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4352-2530-4106-8C2B-E905288761A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2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B5F5-C505-4B71-9607-902060AF47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747C-56AB-46A6-B447-51F4E0DE3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75;&#1076;&#1072;&#1076;" TargetMode="External"/><Relationship Id="rId2" Type="http://schemas.openxmlformats.org/officeDocument/2006/relationships/hyperlink" Target="http://ru.wikipedia.org/wiki/10_&#1089;&#1077;&#1085;&#1090;&#1103;&#1073;&#1088;&#1103;" TargetMode="External"/><Relationship Id="rId3" Type="http://schemas.openxmlformats.org/officeDocument/2006/relationships/hyperlink" Target="http://ru.wikipedia.org/wiki/14_&#1089;&#1077;&#1085;&#1090;&#1103;&#1073;&#1088;&#1103;" TargetMode="External"/><Relationship Id="rId4" Type="http://schemas.openxmlformats.org/officeDocument/2006/relationships/hyperlink" Target="http://ru.wikipedia.org/wiki/1960" TargetMode="External"/><Relationship Id="rId5" Type="http://schemas.openxmlformats.org/officeDocument/2006/relationships/hyperlink" Target="http://ru.wikipedia.org/wiki/&#1048;&#1088;&#1072;&#1085;" TargetMode="External"/><Relationship Id="rId6" Type="http://schemas.openxmlformats.org/officeDocument/2006/relationships/hyperlink" Target="http://ru.wikipedia.org/wiki/&#1048;&#1088;&#1072;&#1082;" TargetMode="External"/><Relationship Id="rId7" Type="http://schemas.openxmlformats.org/officeDocument/2006/relationships/hyperlink" Target="http://ru.wikipedia.org/wiki/&#1050;&#1091;&#1074;&#1077;&#1081;&#1090;" TargetMode="External"/><Relationship Id="rId8" Type="http://schemas.openxmlformats.org/officeDocument/2006/relationships/hyperlink" Target="http://ru.wikipedia.org/wiki/&#1057;&#1072;&#1091;&#1076;&#1086;&#1074;&#1089;&#1082;&#1072;&#1103;_&#1040;&#1088;&#1072;&#1074;&#1080;&#1103;" TargetMode="External"/><Relationship Id="rId9" Type="http://schemas.openxmlformats.org/officeDocument/2006/relationships/hyperlink" Target="http://ru.wikipedia.org/wiki/&#1042;&#1077;&#1085;&#1077;&#1089;&#1091;&#1101;&#1083;&#1072;" TargetMode="External"/><Relationship Id="rId10" Type="http://schemas.openxmlformats.org/officeDocument/2006/relationships/hyperlink" Target="http://ru.wikipedia.org/wiki/&#1050;&#1072;&#1090;&#1072;&#1088;" TargetMode="External"/><Relationship Id="rId11" Type="http://schemas.openxmlformats.org/officeDocument/2006/relationships/hyperlink" Target="http://ru.wikipedia.org/wiki/1961" TargetMode="External"/><Relationship Id="rId12" Type="http://schemas.openxmlformats.org/officeDocument/2006/relationships/hyperlink" Target="http://ru.wikipedia.org/wiki/&#1048;&#1085;&#1076;&#1086;&#1085;&#1077;&#1079;&#1080;&#1103;" TargetMode="External"/><Relationship Id="rId13" Type="http://schemas.openxmlformats.org/officeDocument/2006/relationships/hyperlink" Target="http://ru.wikipedia.org/wiki/1962" TargetMode="External"/><Relationship Id="rId14" Type="http://schemas.openxmlformats.org/officeDocument/2006/relationships/hyperlink" Target="http://ru.wikipedia.org/wiki/2008" TargetMode="External"/><Relationship Id="rId15" Type="http://schemas.openxmlformats.org/officeDocument/2006/relationships/hyperlink" Target="http://ru.wikipedia.org/wiki/&#1051;&#1080;&#1074;&#1080;&#1103;" TargetMode="External"/><Relationship Id="rId16" Type="http://schemas.openxmlformats.org/officeDocument/2006/relationships/hyperlink" Target="http://ru.wikipedia.org/wiki/1962" TargetMode="External"/><Relationship Id="rId17" Type="http://schemas.openxmlformats.org/officeDocument/2006/relationships/hyperlink" Target="http://ru.wikipedia.org/wiki/&#1054;&#1073;&#1098;&#1077;&#1076;&#1080;&#1085;&#1105;&#1085;&#1085;&#1099;&#1077;_&#1040;&#1088;&#1072;&#1073;&#1089;&#1082;&#1080;&#1077;_&#1069;&#1084;&#1080;&#1088;&#1072;&#1090;&#1099;" TargetMode="External"/><Relationship Id="rId18" Type="http://schemas.openxmlformats.org/officeDocument/2006/relationships/hyperlink" Target="http://ru.wikipedia.org/wiki/1967" TargetMode="External"/><Relationship Id="rId19" Type="http://schemas.openxmlformats.org/officeDocument/2006/relationships/hyperlink" Target="http://ru.wikipedia.org/wiki/&#1040;&#1083;&#1078;&#1080;&#1088;" TargetMode="External"/><Relationship Id="rId20" Type="http://schemas.openxmlformats.org/officeDocument/2006/relationships/hyperlink" Target="http://ru.wikipedia.org/wiki/1969" TargetMode="External"/><Relationship Id="rId21" Type="http://schemas.openxmlformats.org/officeDocument/2006/relationships/hyperlink" Target="http://ru.wikipedia.org/wiki/&#1053;&#1080;&#1075;&#1077;&#1088;&#1080;&#1103;" TargetMode="External"/><Relationship Id="rId22" Type="http://schemas.openxmlformats.org/officeDocument/2006/relationships/hyperlink" Target="http://ru.wikipedia.org/wiki/1971" TargetMode="External"/><Relationship Id="rId23" Type="http://schemas.openxmlformats.org/officeDocument/2006/relationships/hyperlink" Target="http://ru.wikipedia.org/wiki/&#1069;&#1082;&#1074;&#1072;&#1076;&#1086;&#1088;" TargetMode="External"/><Relationship Id="rId24" Type="http://schemas.openxmlformats.org/officeDocument/2006/relationships/hyperlink" Target="http://ru.wikipedia.org/wiki/1973" TargetMode="External"/><Relationship Id="rId25" Type="http://schemas.openxmlformats.org/officeDocument/2006/relationships/hyperlink" Target="http://ru.wikipedia.org/wiki/1992" TargetMode="External"/><Relationship Id="rId26" Type="http://schemas.openxmlformats.org/officeDocument/2006/relationships/hyperlink" Target="http://ru.wikipedia.org/wiki/2007" TargetMode="External"/><Relationship Id="rId2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организация ОПЕК стала одним из главных участников мирового рынка нефти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1835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пров Сем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.Усть-Циль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ь-Цилемская СОШ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09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и моей рабо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в каком году появилась ОП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огда и какие страны присоединялись уже к действующей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Задачи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ить как долго существует ОП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ить когда присоединились остальные страны этой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ПЕК как постоянно действующая организация была создана на конференции в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Багдаде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10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—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14 сентября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1960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. Первоначально в состав организации вошли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Иран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Ирак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Кувейт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Саудовская Аравия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и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Венесуэла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инициатор создания). К этим пяти странам, основавшим организацию, позднее присоединились ещё девять: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Катар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1"/>
              </a:rPr>
              <a:t>1961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)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2"/>
              </a:rPr>
              <a:t>Индонезия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3"/>
              </a:rPr>
              <a:t>1962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—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4"/>
              </a:rPr>
              <a:t>2008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, 1 ноября 2008 г. вышла из состава ОПЕК)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5"/>
              </a:rPr>
              <a:t>Ливия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6"/>
              </a:rPr>
              <a:t>1962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)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7"/>
              </a:rPr>
              <a:t>Объединённые Арабские Эмираты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8"/>
              </a:rPr>
              <a:t>1967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)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9"/>
              </a:rPr>
              <a:t>Алжир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0"/>
              </a:rPr>
              <a:t>1969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)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1"/>
              </a:rPr>
              <a:t>Нигерия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2"/>
              </a:rPr>
              <a:t>1971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)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3"/>
              </a:rPr>
              <a:t>Эквадор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4"/>
              </a:rPr>
              <a:t>1973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—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5"/>
              </a:rPr>
              <a:t>1992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6"/>
              </a:rPr>
              <a:t>2007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), Габон (1975—1994), Ангола (200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 результате организация ОПЕК объединила 13 стран  и стала одним из главных участников мирового рынка нефт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http://ru.wikipedia.org/wiki/%D0%9E%D0%9F%D0%95%D0%9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3:28:10Z</dcterms:created>
  <dc:creator>07114</dc:creator>
  <dc:description/>
  <dc:language>en-US</dc:language>
  <cp:lastModifiedBy>07114</cp:lastModifiedBy>
  <dcterms:modified xsi:type="dcterms:W3CDTF">2009-11-27T07:46:10Z</dcterms:modified>
  <cp:revision>5</cp:revision>
  <dc:subject/>
  <dc:title>Как долго существует ОПЕК?</dc:title>
</cp:coreProperties>
</file>